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EBD8-07DA-4D61-8898-FFCD942D1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9C9F-64C5-40D4-AF04-80FD234C4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790A-85A4-477C-9D23-2A57412D8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2900-DB2A-4369-B385-FC2C15156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2DF1-885A-461A-A973-2E2E763A5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9C2D-2180-49B6-8F6E-770D3E263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3055-45B8-4D52-B6FB-04CFC5E67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90987-C467-42A1-9672-0BFFA987E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26B5-3538-47B0-B199-7E309216A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CB4D-B0E4-42AF-851D-5B991F4E2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36C79-8EEC-42AE-BA94-73F4DF9D6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3EA6-B572-4805-995E-5DE78A39A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4E5F-AD38-4C3C-A5E1-35DED91A270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DesignProjects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ssessingProjects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ssessingprojects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60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0120" y="411444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Verdana"/>
              </a:rPr>
              <a:t>Intel Teach – Predarea în societatea cunoaşterii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759720" y="490680"/>
            <a:ext cx="1774800" cy="885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287280" y="618336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2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tatea 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1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unoaşterea elevil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821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1: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Stilurile diferite de învăţare ale elevilor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mpărţirea în grupe de trei membrii. Fiecare mebru al grupului va citi şi va rapor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cu privire la un aspect diferit pentru înţelegerea stilurilor de învăţar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z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-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uditiv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-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hinestezic/practi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artea stângă a creierulu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/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artea dreaptă a creierulu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nteligenţele multip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Resursă 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l</a:t>
            </a:r>
            <a:r>
              <a:rPr b="0" lang="en-US" sz="16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Education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Designing Effective Projects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.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Tastaţi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0" lang="en-US" sz="14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DesignProjects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b. Click 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Enter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. Click 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Thinking Skills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d. Click 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Thinking Frameworks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. Click 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Learning Styles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f. 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itiţi despre diferite stiluri de învăţare  şi explicaţile colegilor din echip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23CC-B9F9-4EC5-9B2E-1E52D638EC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2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tatea 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1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unoaşterea elevil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2: S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usţinerea elevilor cu nevoi special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06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zuiţi materialele de pe CD resurse curriculum pentru facilitarea nevoilor tuturor elevilor şi analizaţi modul în care aţi putea include unele din aceste strategii în unitatea dumneavostră de învăţ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nalizaţi materialele informative de la Modulul 6, activitatea 1, din CD resurse curriculum şi gândiţi-vă ce strategii vă vor ajuta să vă adaptaţi tuturor nevoilor elevi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Aveţi în vedere liniile directore de la pagina 6.07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Not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Un studiu de diferenţiere este opţional (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iation Survey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Notaţi ideile dvs la pagina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6.07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crieţi o schiţă a strategiilor pe care le veţi folosi la secţiunea Facilităţi pentru instruirea diferenţiată din cadrul planului unităţii de învăţ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59795-B708-4E51-8577-546C7FC9D8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13840"/>
            <a:ext cx="823752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0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atea 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2</a:t>
            </a:r>
            <a:br>
              <a:rPr sz="2200"/>
            </a:b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S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usţinerea activităţii proprii de învăţare a elevului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1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naliza evaluărilor formative pentru susţinerea activităţii proprii de învăţare a elevulu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08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valuarea formativă are cele mai bune rezultate când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levilor le este dată o imagine clară a ceea ce trebuie să înveţ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levii prim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c răspunsuri continue cu privire la progresul lor în relaţie cu obiectivele propus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levii îşi evaluează propriile progres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rofesorii furnizează instrucţiuni clare cu privire la paşii pe care elevii trebuie să-i urmeze pentru a avea succ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Black &amp; Wiliam, 1998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F3BE-9157-4CB5-93FF-0DFCCFCF95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6: </a:t>
            </a: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e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000"/>
            </a:br>
            <a:br>
              <a:rPr sz="9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atea 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2</a:t>
            </a:r>
            <a:br>
              <a:rPr sz="2200"/>
            </a:b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S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usţinerea activităţii proprii de învăţare a elevului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zuiţi unul dintre următoarele studii de caz în care evaluările formative sunt folosite pentru a diferenţia învăţarea şi a susţine elevii în activitatea proprie de învăţ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.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schideţi resursa Evaluarea Proiecte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ssessingProjec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2.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En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.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Overview and Benefi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4.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Formative Assessmen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electaţi unul dintre studiile de caz din al doilea câmp marcat din dreapta, pent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a cit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scărcaţi documentul în forma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icrosoft Word*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şi salvaţi-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troduceţi observaţii cum ar fi întrebări, legături cu propriile experienţe sau idei. Discutaţi aceste observaţii cu partenerul dumneavoastră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7F0EB-CE98-44DC-8E83-1B2662AEDB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6: </a:t>
            </a: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e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000"/>
            </a:br>
            <a:br>
              <a:rPr sz="9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atea 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2</a:t>
            </a:r>
            <a:br>
              <a:rPr sz="2200"/>
            </a:b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S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usţinerea activităţii proprii de învăţare a elevului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2: C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rearea unei evaluări pentru a susţine activitatea proprie de învăţare a elevului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09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reaţi o evaluare care ajută elevii să preia mai mult controlul propriului studiu, cum ar fi o evaluare care să faciliteze auto-organizarea, auto-evaluarea şi ref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cţia. Alege dintre următoarele opţiun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Opti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unea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1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reaţi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o nouă evaluare folosind aplicaţia Assessing Projec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page 6.1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Opti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unea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2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Modificaţi o evaluare existentă folosind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aplicaţia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ssessing Projects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page 6.1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Opti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unea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3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D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scărcaţi şi modificaţi o evaluare din secţiunea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Assessment Strategies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 la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ssessing Projects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page 6.1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Opti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unea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4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re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i o evaluare folosind software de procesare a documente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page 6.1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A8A16-8C33-494F-B84E-EFB9837755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2320" y="272520"/>
            <a:ext cx="83106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10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atea 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3</a:t>
            </a:r>
            <a:br>
              <a:rPr sz="2200"/>
            </a:b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Crea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rea materialelor suport pentru a facilita succesul elevilor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1880" y="1792440"/>
            <a:ext cx="8237520" cy="39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1: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Explorarea resurselor de materiale (formulare, şabloane, etc..) pentru a facilita învăţarea independentă a elevilor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1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zualizaţi exemplele de şabloane, formulare şi documente localizate în fişierul Modul 6, activitatea 2 de pe CD resurse curriculum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ândiţi-vă ce şabloane, formulare sau alte documente aţi folosi în unitatea de învăţare pentru a susţine învăţarea independentă a elevi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2: Su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sţinerea gândirii matematic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13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ândiţi-vă la anumite metode prin care aţi putea integra matematica în unitatea dvs. precizaţi ideile la pagina 6.13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6641-317F-4655-B818-489FFECEEF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1200"/>
            </a:br>
            <a:br>
              <a:rPr sz="10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atea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3</a:t>
            </a:r>
            <a:br>
              <a:rPr sz="22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Crea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rea materialelor suport pentru a facilita succesul elevilor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1880" y="1617480"/>
            <a:ext cx="823752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 3: Crearea unor resurse suport pentru elevi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(6.14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 această parte alegeţi una din următoarele opţiuni pentru a crea o resursă pe care elevii o vor folosi pentru a susţine activitatea independentă de învăţare în cadrul unităţii ale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Optiunea 1: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Creaţi un document (page 6.14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Optiunea 2: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Creaţi un document şablon (page 6.15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Optiunea  3: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Creaţi un şablon de prezentare (page 6.15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Optiunea  4: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Creaţi un formular (page 6.16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Creşterea rolului resurselor :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Încorporaţi gândirea matematică în resursa  suport a elevilor (page 6.16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Utilizaţi  Intel</a:t>
            </a:r>
            <a:r>
              <a:rPr b="0" lang="ro-RO" sz="18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Education Help Guide de pe CD resurse curriculum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39E5-5D4D-4CD8-9B1F-AC841C42A6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tea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4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Revi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zuirea planului unităţii de învăţare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18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1880" y="1618920"/>
            <a:ext cx="82375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schideţi Planul unităţii de învăţ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schideţi şi revizuiţi “Lista de verificare a Planului Unităţii de învăţare” salvată în folderul unit_plan din folderul Portofoliu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vizuiţi secţiunea Planului de Evaluare pentru a include evaluări suplimentare în care elevii planifică şi fac alegeri cu privire la activitatea proprie, se gândesc la procesele lor de gândire (metacogniţie) şi evaluează prograsul propriu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if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caţi secţiunea Proceduri de instruire în funcţie de aspectele avute în vede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zuiţi secţiunea Strategii pentru instruire diferenţiată folosind ce aţi învăţat în acest modu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alvaţi planul unităţii de învăţar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3A538-9646-4152-ABB2-AD7FD28B8F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tea 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5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Refle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ctarea asupra propriei învăţări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19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74760" y="1371600"/>
            <a:ext cx="832464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1: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Recapitularea modulu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unctele cheie ale modului 6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Tran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ziţia la învăţarea centrată pe ele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necesită adaptări atât din p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rtea elevilor cât şi a profesorilo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rofesorii trebuie să lucreze cu elevii pentru a-i ajuta să-şi dezvolte abilităţile d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văţare independent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levii trebuie să aibă un rol activ în procesul de învăţar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rofesori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pot utiliza strategii diferenţiate din perspectiva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inutulu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c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lu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d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uselor fina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Mediului de învăţ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rofesorii trebuie să aibă în vedere diferitele stiluri de învăţar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Sprijinirea nevoilor tuturor elevilo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necesită un cadrul corespunzător astfel încât elevii să devină încrezători şi independenţ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72740-8F37-4564-9D03-3F08F7C422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ilor</a:t>
            </a:r>
            <a:br>
              <a:rPr sz="1000"/>
            </a:br>
            <a:br>
              <a:rPr sz="9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atea 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5</a:t>
            </a:r>
            <a:br>
              <a:rPr sz="22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Refle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ctarea asupra propriei învăţări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1880" y="1501560"/>
            <a:ext cx="823752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2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registrarea reflecţiilor pe blog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19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ţi asupra activităţilor, capacităţilor şi abordărilor discutate în acest modul şi apoi deschideţi blog-ul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ţi asupra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pectelo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în care acest modul v-a ajutat să planificaţi şi să creaţi unitatea de învăţare răspunzând la întrebări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îi pot ajuta pe elevii mei să-şi organizeze propria activitate de învăţ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pot susţine diversele nevoi ale elevi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ândiţi-vă ce impact vor avea cunoştinţele câştigate din acest modul asupra modului dvs. de predare şi asupra studiului elevilor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registraţi părerile, reflecţiile, întrebările şi îngrijororile pe blo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6B4E0-E6C6-420B-B58C-B4857F2A05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e am studi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49280" y="1198440"/>
            <a:ext cx="82375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 1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Predarea bazată pe proiec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Bazele învăţării prin proiecte şi design-ul unităţii de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2: Plan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ificarea propriei unităţi d e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Dezvoltarea întrebărilor de încadrare a curriculumului şi evaluarea continuă centrată pe elev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3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Realizarea conexiuni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Internetul ca suport pentru predare şi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4: Cr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earea exemplelor de învăţar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Rezultatele proiectelor elevi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 (pr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zentăr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, public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ţi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, wiki, blo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5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Evaluarea proiectelor elevi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Evaluarea formativă şi sumativă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D031-5626-4DA9-9C1B-4DAE0D35CF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1000"/>
            </a:br>
            <a:br>
              <a:rPr sz="9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Plan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ificarea în avans</a:t>
            </a:r>
            <a:br>
              <a:rPr sz="2200"/>
            </a:b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P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lanificarea în avans a materialelor de facilitare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1: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Gândiţi-vă în avans la utilitatea resurselor de facilitare pentru unitatea dvs. de învăţ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6.2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La paginile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6.21–6.22,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unt prezentate strategii de predare pe care profesorii ar trebui să le includă în diferitele etape ale planificării unităţi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La începutul unităţii de învăţare, includeţi strategii pentru stabilirea obiective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În timpul unităţii includeţi strategii pentru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n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torizarea progresului pentru atingerea obiectivel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rodu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rea cunoştinţelor no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xersarea, revizuirea şi aplicarea cunoştinţel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La finalul unităţii de învăţare, includeţi strategii pentru a ajuta elevii să determine cât de bine şi-au atins obiective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6D5F-8B9D-4741-BB90-CF44C631DD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1000"/>
            </a:br>
            <a:br>
              <a:rPr sz="9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Plan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ificarea în avans</a:t>
            </a:r>
            <a:br>
              <a:rPr sz="2200"/>
            </a:b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P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lanificarea în avans a materialelor de facilitare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1880" y="1530360"/>
            <a:ext cx="82375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2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Brainstorming – materiale de facilitare create pentru unitatea de învăţar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2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materiale de facilitare aţi creat deja pe care doriţi să le folosiţi neschimbate sau să le modificaţi pentru unitatea dv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materiale de suport pentru profesor v-ar ajuta să fiţi mai eficien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materiale noi de facilitare ar îmbunătăţi învăţarea elevilor dvs.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materiale suplimentare de facilitare ar fi utile pentru a facilita implementarea unităţii dv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C035-EDD4-4EC1-84FD-860E582545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Privind înainte!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3680" y="719280"/>
          <a:ext cx="8218440" cy="5419440"/>
        </p:xfrm>
        <a:graphic>
          <a:graphicData uri="http://schemas.openxmlformats.org/drawingml/2006/table">
            <a:tbl>
              <a:tblPr/>
              <a:tblGrid>
                <a:gridCol w="2628720"/>
                <a:gridCol w="55897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7: Facilita</a:t>
                      </a: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are prin tehnologi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Focus:</a:t>
                      </a:r>
                      <a:r>
                        <a:rPr b="0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rofesorul ca facilita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zultate aşteptate</a:t>
                      </a:r>
                      <a:r>
                        <a:rPr b="1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: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Folosirea întrebărilor pentru a promova gândirea de nivel superior şi pentru a implica elev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uto-evaluarea facilităţilor create pentru a le adapta învăţării centrate pe elev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rea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 materialelor de facilit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rea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 unui plan de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mplement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vi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zuirea planului unităţii de învăţar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flecţii asupra propriei învăţări pe blog şi discuţii cu partener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Loca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lizarea resurselor de Internet pentru profesor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E3382-19D6-4E05-B516-C16F929453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82600" y="6472080"/>
            <a:ext cx="6472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2006 Intel Corporation. All rights reserved. Intel, Intel logo, Intel. Leap ahead., and Intel. Leap ahead. logo are trademarks or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registered trademarks of Intel Corporation or its subsidiaries in the United States and other countrie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086360" y="2987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41960" y="1576440"/>
            <a:ext cx="2263680" cy="1130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84400" y="1512720"/>
            <a:ext cx="2787480" cy="114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457C-D64C-4386-BB80-8A06FCEB3F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835520" y="28584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1300320"/>
            <a:ext cx="4851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mputers are not magic. Teachers are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5034960" y="490212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B98C-32D1-4874-B886-ED75343721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92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8840" y="4459320"/>
            <a:ext cx="83012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ule 6: Plan</a:t>
            </a: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ificarea pentru succesul elevului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4329-09E6-45DE-8FD6-EAFEBB5A58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73120" y="32868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e studiem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565200" y="1528920"/>
            <a:ext cx="3892680" cy="42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Focus: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Materiale suport pentru elevi şi dezvoltarea gândirii proprii a acesto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59480" y="14400"/>
            <a:ext cx="4484520" cy="599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48F6-1E2E-4A9C-980B-7C97AFAF5F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860a8"/>
                </a:solidFill>
                <a:latin typeface="Verdana"/>
                <a:ea typeface="Times New Roman"/>
              </a:rPr>
              <a:t>Rezultate aşteptate</a:t>
            </a:r>
            <a:r>
              <a:rPr b="0" lang="en-US" sz="3200" spc="-1" strike="noStrike">
                <a:solidFill>
                  <a:srgbClr val="0860a8"/>
                </a:solidFill>
                <a:latin typeface="Verdana"/>
                <a:ea typeface="Times New Roman"/>
              </a:rPr>
              <a:t>: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5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860a8"/>
                </a:solidFill>
                <a:latin typeface="Verdana"/>
                <a:ea typeface="Times New Roman"/>
              </a:rPr>
              <a:t>Cercetarea strategiilor pentru instruirea diferenţiată</a:t>
            </a:r>
            <a:endParaRPr b="0" lang="en-US" sz="21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860a8"/>
                </a:solidFill>
                <a:latin typeface="Verdana"/>
                <a:ea typeface="Times New Roman"/>
              </a:rPr>
              <a:t>Crearea unei evaluări care să încurajeze autonomia în    gândire a elevului</a:t>
            </a:r>
            <a:endParaRPr b="0" lang="en-US" sz="21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860a8"/>
                </a:solidFill>
                <a:latin typeface="Verdana"/>
                <a:ea typeface="Times New Roman"/>
              </a:rPr>
              <a:t>C</a:t>
            </a:r>
            <a:r>
              <a:rPr b="0" lang="ro-RO" sz="2100" spc="-1" strike="noStrike">
                <a:solidFill>
                  <a:srgbClr val="0860a8"/>
                </a:solidFill>
                <a:latin typeface="Verdana"/>
                <a:ea typeface="Times New Roman"/>
              </a:rPr>
              <a:t>rearea materialelor suport pentru elev</a:t>
            </a:r>
            <a:endParaRPr b="0" lang="en-US" sz="21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860a8"/>
                </a:solidFill>
                <a:latin typeface="Verdana"/>
                <a:ea typeface="Times New Roman"/>
              </a:rPr>
              <a:t>Revizuirea planului unităţii de învăţare din perspectiva planificării pentru succesul elevului</a:t>
            </a:r>
            <a:endParaRPr b="0" lang="en-US" sz="21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860a8"/>
                </a:solidFill>
                <a:latin typeface="Verdana"/>
                <a:ea typeface="Times New Roman"/>
              </a:rPr>
              <a:t>Reflec</a:t>
            </a:r>
            <a:r>
              <a:rPr b="0" lang="ro-RO" sz="2100" spc="-1" strike="noStrike">
                <a:solidFill>
                  <a:srgbClr val="0860a8"/>
                </a:solidFill>
                <a:latin typeface="Verdana"/>
                <a:ea typeface="Times New Roman"/>
              </a:rPr>
              <a:t>tare asupra propriei învăţări pe blog</a:t>
            </a:r>
            <a:endParaRPr b="0" lang="en-US" sz="2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359CA-EF52-4C1D-BB36-23A3704883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851360" y="272880"/>
            <a:ext cx="75898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Întrebarea esenţială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4856040" y="1371600"/>
            <a:ext cx="3892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poate fi folosită tehnologia cel mai eficient pentru a susţine şi evalua învăţarea elevi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Întrebările modulului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îi pot ajuta pe elevi să-şi formeze automonia în gândi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pot susţine diversele nevoi de învăţare ale  elevi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4691160" cy="601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D05FE-A430-449B-A5B5-3F4C6A6BFE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e mai avem de studiat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7: Facil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itarea învăţării prin tehnologie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Profesorul ca facilitat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8: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Prezentarea portofoliilor unităţilor de învăţa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S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chimb de opinii cu privire la portofoliile realiza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4A7E1-AABD-4BE6-A986-FEA67EF3F6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1000"/>
            </a:b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Lucraţi în perechi şi comunicaţi</a:t>
            </a:r>
            <a:br>
              <a:rPr sz="2200"/>
            </a:b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Exemplul pentru elevi şi modul de evaluare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(6.01)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6200" y="1371240"/>
            <a:ext cx="4573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Răspundeţi la întrebările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valuarea se potriveşte cu obiectivele unităţii de învăţ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valuarea descrie clar şi specific rezultatele şi aşteptări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valuarea este în concordanţă cu întrebarea esenţială şi de unitat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xemplu pentru elevi creat are în vedere rezultatele şi aşteptările dorite ale evaluări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941720" y="1257480"/>
          <a:ext cx="3973680" cy="35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41720" y="1257480"/>
                    <a:ext cx="3973680" cy="35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88F38-F30E-4CD4-BEA0-ECE1F32F9B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10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P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ractici pedagogice</a:t>
            </a:r>
            <a:br>
              <a:rPr sz="22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Susţinerea elevilor să lucreze prin metoda proiectului în cazul învăţării centrate pe elev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(6.02)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1520" y="1444320"/>
            <a:ext cx="832500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În proiecte elevii sunt solicitaţi să ia decizii, să lucreze în colaborare, să preia iniţiativa şi să efectueze prezentări publice – toate acestea pot fi dificile la început pentru elevi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Prin brainstorming răsp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u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ndeţi în grupurile formate la următoarele întrebări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îi pot ajuta pe elevii mei să-şi dezvolte autonomia în gândire şi să ia decizii optime pentru finalizarea sarcinilor proiectulu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putem ajuta elevii să devină doritori să investigheze şi să răspundă la întrebări complexe/deschis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putem încuraja şi susţine elevii în timp ce îşi asumă roluri noi care se potrivesc cel mai bine talentelor lor individua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modele putem fur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za pentru a ajuta elevii să reflecteze şi să valorifice experienţa şi gândirea independent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Opţional: </a:t>
            </a:r>
            <a:r>
              <a:rPr b="0" lang="ro-RO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ssessingprojects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6F3C0-1E45-43A4-B8F3-E397AE6A90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Filonela Rodica Balasa</cp:lastModifiedBy>
  <cp:lastPrinted>2006-11-14T00:45:04Z</cp:lastPrinted>
  <dcterms:modified xsi:type="dcterms:W3CDTF">2007-08-17T11:32:27Z</dcterms:modified>
  <cp:revision>145</cp:revision>
  <dc:subject/>
  <dc:title>Presentation Title Goes Here</dc:title>
</cp:coreProperties>
</file>